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069-2B0E-4BA0-8E84-5E05389F4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E1C-6782-4ACA-B025-DD90F7F4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EC0-6584-48E8-9F10-DB761EBE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99B-7466-4461-9B3A-B701E78C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83C-F177-4B67-9468-5754102E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8F8-06E5-493C-93C6-CE525E93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FA11-D6A5-4D00-9475-FC7AE37C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C16C-9F89-446C-ADAA-86707406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8527-9DE7-4F13-AF23-18D67DA3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2A9-10C7-4C5F-9590-D50E80A7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A70-AA3F-4405-9E0A-F39BD919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17B0-CB4B-42E0-87F6-E73A3D10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93E-0B76-4878-B647-13266C8A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F98-F8AE-4441-A474-98EC4975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64C9-CC56-414B-836A-77975E76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B65-A88D-41DB-BDEF-B0D38198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316-9F2B-4C9B-9B62-CAFB1354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FB1-9030-4669-A2B3-2640934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F799E-6246-4A6B-BD74-71F27CC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F8F3-C6F0-4050-ACA1-92BD6C8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F9BF-CC35-4D72-AE92-2DB799E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2873-A75B-42EA-B27C-39623F0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52AC-0043-45B5-9FDB-8680E28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6E81-2BB9-452D-A1D1-1CC18F8F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B81F-3791-40DA-9F6E-55B4172D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ECEB-54C4-400D-9401-2E32B28E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AF75-87BA-46A8-A068-2DD7C48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16A7-033A-481D-A1DE-24DBA297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3A0-B46F-488F-88A5-E1224FBC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BED2-4365-4144-B9A7-E31181AF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2D8E-3437-42B2-9D10-0F982521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4C40-714C-4A8A-ACF5-30CBC17D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4577-BCD4-47FD-9379-711A6B6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2164-7F1C-48C9-B978-3839547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A47A-9DB0-4672-AC85-7F5CCB1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39CE-675E-42B4-9CAF-1EFE900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11681-77B6-4156-AD94-271EA6B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E128-17C0-41E3-AED1-49890A9E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B983-C8F6-4B77-9385-82FC0525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735-670C-4F67-A7C6-839619B5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C286-3C30-413E-AC83-E3595BF6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DC02A-CAD5-49A3-87C6-CE1DAFE6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54924-8E66-43A8-9E29-5704AEB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B8411-FAE7-4D88-8A7E-2462F45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CE22-0E75-40D4-BF2E-688C5B7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7757C-4292-49E8-A854-81914E4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3E1EF-47EF-4AF4-A4C2-A272E9C4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27F4-A5F1-41A9-9D56-81911ADB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6A686-E517-4A1F-A8FE-0EA00084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B9FE5-2EFB-47C0-A8A7-3290CF9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44C-4555-4BAA-A23C-6C231FC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AD0F5-688A-490B-B362-9A76E3D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569D9-234D-4E8E-8A1E-8F8801A5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EC247-6221-4694-A397-080B560C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5F9E-A1BF-4BF5-B34B-DC92AE1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947-9044-443C-A3D4-F6C7020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4F5C-9F21-41E4-A97A-2F401F11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2E9-184A-432A-93A3-D5A288FA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E56-9F6E-441D-ABC6-6721AF0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D967-3D56-48F0-8F6D-03DBCE7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B33-D7F8-4E4C-9480-DCD2D9DB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BAC-D812-4502-A473-BE95F45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BD7C-804E-43B0-BFD3-B32599B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510-17BE-416F-B1FC-571E099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BBD-969F-4A91-B144-899C10EE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C9EF-0199-4369-9765-7619D25C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6D1-554E-4C1F-AF1D-07D6DE6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327-A8B7-407B-88C4-5C986B9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F3A2-5DAC-48AE-9190-FA640DE3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774-88AF-4379-9042-576D453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3486-1163-4701-91E1-57428CB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1758-C1D2-4CBE-9E13-BEBABC5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8B54-4A78-464A-B561-5FA785E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00E4-76CF-4C91-A57C-2151BCB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39FA-FA06-49A7-8486-88B48FE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5DBE-4BCE-4BFA-BC6E-44E1CA9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2515-77A0-4D47-8B7C-1236EDD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0657-2356-430C-9E3E-5E5147A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9A60-29C1-4FFE-9282-61B8347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6F9F-2E54-4447-8E8D-06F31095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D3C-96C5-4FE4-8D42-A61ADE8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AED8-841D-4BE6-A480-D4959EC3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C15E-A969-450C-ACA0-A0C3C604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4FF5-CB96-4A70-B3AE-0FBBA44E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BC3F-68D4-4B03-8051-10E5A0A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0478-9353-4B61-A7AD-08F6AE9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CFAE-12A0-4CCF-A064-F3E30824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3C44-1249-4571-9400-31EA994C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C9DB-B429-4CA4-BD62-A94C368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7766-8574-4CC6-BEB5-2D22C3F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6B35-2110-4516-89AB-06C7AA11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008-CA8F-4F2E-B136-FD04604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3129-7EC6-4E91-8341-829D4A8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5263-49DE-4AE8-A802-583C6884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1151-A1AE-418A-B98A-4EC67522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B8CA-588A-458E-87EB-E2BD9B05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A2FB-680A-46B1-B26A-F21B2A87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C868-583B-4FEC-AB76-6EBF9B7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A3C8-1CFF-4209-BA7C-919452BA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7EDC-2074-4CE5-A550-9AC12D1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5266-1774-47AB-ADE3-5FFE759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181F5-A793-4148-9001-C00856C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DEF-D4CE-4593-AD60-CE8A0A8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1534B-F7E3-4DF3-8AC3-75AC55B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05AC-EC43-4E55-80CC-0C046DF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179B-9C69-4BEE-A22F-7F299653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AB4E-9C5F-4581-84B7-81757F97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8FC9-9918-4E80-A3B0-6F46B1BD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7248-55BF-4610-8FB9-D0D65206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208DC-1184-4E3A-88EE-03AD5D59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0345-E8E4-4211-9B19-1C80542E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1550B-E361-493B-A9B4-B6DFE6B2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51F9-F8E9-4700-B38A-C169784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0F5-8F07-4619-8F85-241A5B4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0109-4089-44DE-9132-354F5562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2460-6BB7-40A4-BA47-99E4D43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D568-C1CA-4CFA-8D85-5CB804A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225D1-AFB4-4381-83F2-9C1D2F8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71E3-AA62-4EB0-B0C1-F0F623B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B93E-D5D3-4B63-AC0B-452F005E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52C4-EE05-4A8C-AF57-D55BD2A9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781DC-DF1E-484F-9AD3-B3D91025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E5F7-7286-4DCE-8D78-7AEF51A7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8917D-D864-4313-8168-6437191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DF36-EC7E-4E04-882E-252F80D66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8A6-DE92-457E-965D-9CA303AB8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855B-F1FB-45A3-B177-49BB1F9D4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0EE-B607-466C-B40C-0FF289890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DA4-3BCC-49FC-BBD1-535F81CAC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BCB-CA6C-4D60-8E72-B708A2874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4550-63B7-48E1-89A9-A7364B561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354-F9E5-4896-9B8F-7EC7F5BF6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103-6AE9-42E0-A095-907A45E02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jective: Students will understand how call numbers are used to locate books and other materials in the libra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 in the Cata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look up a book in the catalog, you should find the call number listed. Write down both the call number and the book title and take it to the sh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3" descr="catalogcallnumbers.jpg"/>
          <p:cNvPicPr/>
          <p:nvPr/>
        </p:nvPicPr>
        <p:blipFill>
          <a:blip r:embed="rId1"/>
          <a:stretch/>
        </p:blipFill>
        <p:spPr>
          <a:xfrm>
            <a:off x="2133720" y="3429000"/>
            <a:ext cx="5562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Books on the Sh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2280" y="19051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looking at the shelves in your library, you want to look from left to right and top to bot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shelfreading.jpg"/>
          <p:cNvPicPr/>
          <p:nvPr/>
        </p:nvPicPr>
        <p:blipFill>
          <a:blip r:embed="rId1"/>
          <a:stretch/>
        </p:blipFill>
        <p:spPr>
          <a:xfrm>
            <a:off x="3581280" y="1981080"/>
            <a:ext cx="52959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all Number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Dewey Decimal System is used in most schools, most universities use the Library of Congress classification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panic! Books will still be shelved according to their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y of Con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y of Congress Classification System does not label fiction and nonfiction books differently like Dewey does. All call numbers start with letters and numbers based on a specific subjec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books that start with RA565 are about environmental health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uckleberry Fin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s with PS1305 and this section also includes literary criticisms and essays related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uckleberry Fin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y of Congress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Content Placeholder 3" descr="lcnumbers.jpg"/>
          <p:cNvPicPr/>
          <p:nvPr/>
        </p:nvPicPr>
        <p:blipFill>
          <a:blip r:embed="rId1"/>
          <a:stretch/>
        </p:blipFill>
        <p:spPr>
          <a:xfrm>
            <a:off x="2481120" y="2598840"/>
            <a:ext cx="4181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ool libraries organize books using the Dewey Decimal Sys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ction books will have call numbers starting with 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C.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fiction books will have call numbers starting with a set of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fiction books on the same topic should be found in the same area in the libra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y of Congress Classification System is used at most academic libraries to organize boo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19051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es use different systems to organize books. Most school libraries use the Dewey Decim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10" descr="C:\Users\Operator\AppData\Local\Microsoft\Windows\Temporary Internet Files\Content.IE5\G505IBG5\MP900439396[1].jpg"/>
          <p:cNvPicPr/>
          <p:nvPr/>
        </p:nvPicPr>
        <p:blipFill>
          <a:blip r:embed="rId1"/>
          <a:stretch/>
        </p:blipFill>
        <p:spPr>
          <a:xfrm>
            <a:off x="5867280" y="3276720"/>
            <a:ext cx="198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wey Decim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ewey Decimal System, books are labeled with letters and numbers so that you can find them on the shelves. These are known as cal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novels and stories start with an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wing that they are fiction. Then come the first few letters of the auth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ast name, lik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J.K. Row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3" descr="ROW1.jpg"/>
          <p:cNvPicPr/>
          <p:nvPr/>
        </p:nvPicPr>
        <p:blipFill>
          <a:blip r:embed="rId1"/>
          <a:stretch/>
        </p:blipFill>
        <p:spPr>
          <a:xfrm>
            <a:off x="3886200" y="4114800"/>
            <a:ext cx="1447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found the right author, look at the book titles to find the exact one yo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looking f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by the same author should be listed alphabetically by title (unless they are part of a ser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3" descr="HarryPotters.jpg"/>
          <p:cNvPicPr/>
          <p:nvPr/>
        </p:nvPicPr>
        <p:blipFill>
          <a:blip r:embed="rId1"/>
          <a:stretch/>
        </p:blipFill>
        <p:spPr>
          <a:xfrm>
            <a:off x="5410080" y="449568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non-fiction books start with numbers instead of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all numbers will start with 3 numbers followed by a period and possibly one or more numbers. For example: 39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like fiction books, the call number will have the first few letters of the auth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as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3" descr="tattoobook1.jpg"/>
          <p:cNvPicPr/>
          <p:nvPr/>
        </p:nvPicPr>
        <p:blipFill>
          <a:blip r:embed="rId1"/>
          <a:stretch/>
        </p:blipFill>
        <p:spPr>
          <a:xfrm>
            <a:off x="4572000" y="3013200"/>
            <a:ext cx="528480" cy="3497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tattoobook2.jpg"/>
          <p:cNvPicPr/>
          <p:nvPr/>
        </p:nvPicPr>
        <p:blipFill>
          <a:blip r:embed="rId2"/>
          <a:stretch/>
        </p:blipFill>
        <p:spPr>
          <a:xfrm>
            <a:off x="5878440" y="2971800"/>
            <a:ext cx="935280" cy="35812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5"/>
          <p:cNvSpPr/>
          <p:nvPr/>
        </p:nvSpPr>
        <p:spPr>
          <a:xfrm>
            <a:off x="2819520" y="380988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biographies start with 92 and are organized alphabetically by the person the book is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wey Decimal System groups non-fiction books on the same subjects together, so generally all of the books about the same topic will have a similar call number. This means you can look at one shelf and find several books on the same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3" descr="mythologyshelf.jpg"/>
          <p:cNvPicPr/>
          <p:nvPr/>
        </p:nvPicPr>
        <p:blipFill>
          <a:blip r:embed="rId1"/>
          <a:stretch/>
        </p:blipFill>
        <p:spPr>
          <a:xfrm>
            <a:off x="5410080" y="4191120"/>
            <a:ext cx="2962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50:12Z</dcterms:created>
  <dc:creator>Megan Davis</dc:creator>
  <dc:description/>
  <dc:language>en-US</dc:language>
  <cp:lastModifiedBy>Laurel Harris</cp:lastModifiedBy>
  <dcterms:modified xsi:type="dcterms:W3CDTF">2013-09-09T14:00:05Z</dcterms:modified>
  <cp:revision>46</cp:revision>
  <dc:subject/>
  <dc:title>Call Numbers</dc:title>
</cp:coreProperties>
</file>